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0D7-3F4E-4247-84FA-36C46B77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7A9-E80F-4628-8B94-16F88B4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E48-5417-4EF9-AF5F-C305EFC6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B54-C543-43D1-8EAE-33ED3356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A34-1493-41E7-951D-04574EB2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4D5-BB65-44F7-BFA6-B579BEF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3A8-E5FE-4114-A933-CF875771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91F-F3F2-48BA-ABA7-131BF43E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C18-6114-4862-BB2F-5F85A19C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190-0B1C-4840-9272-45A33B73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803-A42E-4C79-AA16-B86C8D5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161-0790-4A2A-9BEE-50CCC05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D4C-0E85-476E-8F5C-2EFC33DB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4:35:05Z</dcterms:created>
  <dc:creator>Patrick J. Mooney</dc:creator>
  <dc:description/>
  <dc:language>en-US</dc:language>
  <cp:lastModifiedBy>Patrick J. Mooney</cp:lastModifiedBy>
  <dcterms:modified xsi:type="dcterms:W3CDTF">2011-11-29T04:36:43Z</dcterms:modified>
  <cp:revision>1</cp:revision>
  <dc:subject/>
  <dc:title>Slide 1</dc:title>
</cp:coreProperties>
</file>